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6929-06B3-45A0-9A40-AD6362A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B1CA-3014-4A15-B1F2-0AD5B05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76F0-956D-482B-ABCE-494FFCC5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161A-AD88-43F0-895D-E386FBF3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B56C-58A1-4AA9-ACAA-2A02EF14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C162-46BF-4992-8EC5-9D2A0D6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F64F-DF35-4CC7-A376-9EFEDA6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7EF-793D-43DA-8E63-2755E4E5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0A8A-6B2D-4534-8A57-108DE0B9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97D2-641A-4BE5-85B4-5E634349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90E-9C78-4564-81B7-5BD8979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3651-1659-46BE-A3FB-EF8657E2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B23-A0C4-4583-9388-09E5BC7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633-5295-49BA-804D-9A1EA866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A41-BB2E-468A-9AC3-5DE4F7B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9645-DC8E-4920-9C2E-CA5C2266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08F8-D754-444A-A425-593D8B26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A662-6FF2-433D-B3A0-408E984A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A594-E526-48F1-A6CC-691A26C9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2046-1643-4B63-BFD3-0C535CE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DE76-CB57-44B3-8A77-9D1AB566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F5ED-F7AD-45E9-8B82-1FFF30D5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8A60-4588-4C74-8563-BA0FF7D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E635-5C46-4197-A709-95FF3C3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810-C3AD-4B80-ADA0-966C320A72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F7E7-E1AA-4455-B073-FEDE4AA0EB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fdef6"/>
                </a:solidFill>
                <a:latin typeface="Times New Roman"/>
              </a:rPr>
              <a:t>Кризис в Ульяновской област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ризи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это «поворотный момент», точка, после которой вещи не могут оставаться прежними. В экономике кризис проявляет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значительном спаде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нарушении сложившихся производственных связ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банкротстве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росте безрабо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6659640" y="4373640"/>
            <a:ext cx="22334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Наибольшие проблемы в регионе испытывают обрабатывающие отрасли: это машиностроение и металлообработка. Снижение произошло по большому счёту из-за того, что в январе сократили производство автомобилей и оборудования «УАЗ», «Моторный завод» и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4392360" cy="29260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92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лияние кризиса распространилось и на социальные показатели. Количество не работающего населения увеличив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ейчас, средняя заработная плата составляет 10100 рублей. По сравнению с январём прошлого года, это больше всего на шесть проц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Уровень безработицы по Ульяновской обл.(в % к численности экономически активного населения)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7 года – 2,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8 года – 1,7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январь 2009 года – 1,6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00720" y="1773360"/>
          <a:ext cx="4643280" cy="4116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773360"/>
                    <a:ext cx="4643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Times New Roman"/>
              </a:rPr>
              <a:t>Принятые в 2009 г. антикризисные меры позволили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ти режим жёсткой эконом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кратить бюджетные расходы на содержание органов исполнительной вла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пустить срывов по выплате заработной платы и социальным пособ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ьно пройти отопительный сез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допустить обвального сокращения занят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ать дополнительные меры по поддержки бюджетообразующих предприятий и малого бизнес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изировать ситуацию в банковской сфе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ять решения о снижении ставок по налогам на имущество и на землю для ЗАО «Авиастар-СП», ОАО «Ульяновский автомобильный завод», НПО «Мар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четыре месяца 2009 года индекс роста инвестиций в основной капитал составил 138,2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здано 11,5 тысяч новых рабочих мес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6 ключевых направлений антикризисных мер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      Эффективная бюджетная полит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      Развитие инвестицион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      Поддержка реального сектора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    Дополнительные меры по формированию на территории области среднего кла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     Стабилизация на рынке т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     Выполнение социальных обязательств и усиление социальной защиты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Times New Roman"/>
              </a:rPr>
              <a:t>Меры социальной поддержки направлены на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Поддержку ветеранов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оказание адресной помощи беременным женщинам и семьи с детьми, из числа безработных или находящихся под риском сокра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организацию летнего отдыха 800 детей сирот и детей, оставшихся без попечения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) помощь студентам в виде областных именных стипенд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Антикризисные меры Ульяновской области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оприятия по реформированию ЖК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автомобильной отрасли  через программирование государственных закупок техн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оставление налоговых льг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ализация программ занятости и самозанят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малого и среднего бизне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полнительные меры социальной защи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7:36:14Z</dcterms:created>
  <dc:creator>Admin</dc:creator>
  <dc:description/>
  <dc:language>en-US</dc:language>
  <cp:lastModifiedBy>Admin</cp:lastModifiedBy>
  <dcterms:modified xsi:type="dcterms:W3CDTF">2009-05-28T07:47:51Z</dcterms:modified>
  <cp:revision>8</cp:revision>
  <dc:subject/>
  <dc:title>Кризис в Ульяновской области</dc:title>
</cp:coreProperties>
</file>